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95DB7-50AF-4015-90DF-EDE15B5A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6AD6-2BB3-4925-A835-8520DB61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3622-EAE8-44B4-8C10-50AEFAED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FD7A-E2EC-4F64-A073-BA862C0A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AB1D-93E5-460F-99C8-EAC65495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09B4-591E-4F80-B600-83844ADE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E027-4F40-4F94-8E74-538094C3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A2F2-E31D-448A-9BF7-B1C62040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9F2D-E48A-42F4-A17D-82FA4E14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E6B7-9320-4DAD-ACB8-9D847DF2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AD32-0EFB-4032-9E34-7930D7DB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C553-C105-4C0C-8510-2D4B10B9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EC88-53DA-43E6-8DAF-4AF8E0F2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5E6E-E498-4761-81AB-48870B30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12AB-5C6F-49A5-8B86-903D418C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885A-9783-491B-9EA5-2941FB25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6547-276E-4583-8AA5-2526EBE5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B2F2-7A86-4C8E-977E-AC28E325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14D41-AF6E-4FE2-A782-C70F31F7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8A087-6322-48FC-B559-7B9BD165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E38B-6BB1-42C5-A961-0E1DB62A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361D-2CC8-44F6-A166-D08DF017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7481D-065F-4ECA-9939-D68430A7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F9C95-58FF-480A-8BE7-4E37CCA5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3EAB-7750-4931-BD70-98A2C5D18F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A61E-FAC2-4B8A-B1F7-CEF113EF7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e.jmu.edu/mathvidsr/inst_strat/descrip/cra.ht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eaching Strategies for Engaging English Learners (ELs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SC 440S Resour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920" y="6172200"/>
            <a:ext cx="78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ed by Grace Cho, PhD. and Debra Ambrosetti, PhD.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cabulary Build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arify expressions, words, and symbols that have multiple mean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rationalize, column, table, simplif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X and(.) Indicate the multipl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ach technical te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percentage, square roo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 Tree given one term, the students generate 3-4 words that denote the same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Subtraction = take away, minus or dif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Building Strategi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and generate attributes, examples and non-examples of a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geoboard, have students identify the unique characteristics of a shape they have cre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students provide and explain an analogy based on content/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numbers are like the overdrawn amount in a checking accoun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Tap Prior Knowledge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Link concep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explicitly to students’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background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erce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Restaurant bill –calculating the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ercentage of taxes taken out of a pay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ales disc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While giving examples, use vocabulary relevant to the students’ l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Links explicitly made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ast learning and new concepts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students make the connection between what they know to what they need to learn for m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Multiplication is repeated addition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ncept maps to relate prior knowledge to new concepts and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ssess or vali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prio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OD—Problem of the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KWL- What I know, what I want to know, and what I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omote Academic Learn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Tea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study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ornell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of a student pl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Question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Accommodate different learning sty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Visual (Graphs, charts, tables) auditory (discussion, lecture), kinesthetic (manipulative, g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light the visual side of math since many students may not be auditory lear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rporate cues such as: facial expressions, body language and visual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ncrete manipulatives such as base ten blocks, geoboards, algebra 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Use Curriculum 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dapt the text to the language level of 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ailor the curriculum to meet ELs’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ssist students in rewriting word problems in simpler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Teach content concepts which are appropriate for age and educational background levels of you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Use supplementary materials to make the lesson clear and interesting (e.g., graphs, models, visuals, trade books,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3600"/>
            </a:b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Consider Affective Issu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Demonst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 to cultural &amp; linguistic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alternative grouping and interactive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Heterogeneous cooperative learning groups, think-pair-share, peer work, peer evaluations, jigs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Fos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supportive learning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 (i.e. low anxiety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Encoura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elaborated respon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 in Teacher student inter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romp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an you tell me more?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and how would you do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Would you explain that to th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Gulim"/>
              </a:rPr>
              <a:t>Use variety of Assessment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uthentic or ”real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assess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interview, portfolio, quick write (“In one paragraph, explain the Pythagorean theorem.”), teacher observation, project, demons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Va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ways of showing concept attai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Modif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forms of assessments to fit les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graphic organizers, oral presentations, student generated test, concept maps,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s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your students’ backgrou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minister a Needs Analys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your students’ math levels—(pre-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students’ attitudes towards m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y the background and prior experiences of students (e.g., cultural, linguistic abilities, educational experienc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 aware of cultural differences and include modifications in order to develop a culturally relevant curriculu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In some cultures, th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finding the answer is not as valued as the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teacher asks students to “show their work”, students may not understand this action because the process is a mental action and not computed on paper—the “work” is done in their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positive learning environment in order to diminish math anxiety and maximize learning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owing for controlled social intera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tilize group work/cooperative learning effectively and correc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corporating consistent and established structure into class procedure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room procedures/routines—where to hand in homework, get paper, text book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room organization—seating arrangement, free walk spaces, teacher are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Ste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e all students regardless of gender, race, eth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ware of the historical expectations/stereotypes of certain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females in math related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ns excel in math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bject matter interesting, engage students in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content relevant and 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Ste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ystify Myths about Math as a Universal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niversal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imple concepts are universal i.e. simple concrete number algorithms (2+2=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ot Universal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ther aspects of Math are difficult because of language dif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erence between “a” and “th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 tim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umber is 3 more than 10 tim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umber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all cultures use math, or math symbols in the same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Use of “period (.)” instead of “coma (,)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mals are indicated by a period in English and a comma in many other languages. Commas as used in English, may be indicated by a period in many other langu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thousand (2,000  in English): (2.000 in Spanish, Germa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Spanish and some other languages the day is written first, followed by the month, then the ye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nuary 27, 2003: Spanish: 27-01-03; English: 01-17-03; Korean: 2003. 1. 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i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May be written as military time: 14:00 hours as opposed to 2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asurement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ric system (kilogram, meter, liter) vs. English system (inches, feet, pounds, c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Ste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Invite and Involve Par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Note: Don’t make assumptions—parents from certain cultures may be absent from the school environment as a sign of respect for the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your lessons for ELs by incorporating the following teaching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ese strategies are not to be used in isolation and they should complement the les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ifications for 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ons must contain both content and language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 need many opportunities to learn all academic aspects and complexities of Math (content) while developing communicative competence in English (language skil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Students should be given ample opportunitie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clarify key concepts in their first language (L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Gulim"/>
              </a:rPr>
              <a:t> as needed with an aide, peer, or L1 tex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omoting Lesson Compreh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Contextuali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the les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Progress concepts from concrete to abstract by using math manipulative, games, realia, vis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e the process of solving mathematical problems by using pictures and mode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Visualization-- abstract to concrete conceptualization. The ability to explain the concept in concret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ers should provide connections to key problem solving strategies that assist students during mathematical challe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ach students to make connections within the subject and in the real world, to reason mathematically, verify their findings, solve real world problems, communicate their thinking about math…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many and continuous opportunities to learn complexities of m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57200" y="61722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dditional ideas, see </a:t>
            </a:r>
            <a:r>
              <a:rPr b="0" lang="en-US" sz="18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oncrete-Representational-Abstr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omoting Lesson Comprehension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Employ Speech Mod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language that is appropriate for proficienc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more pause between phrases, enunciation, and simple sentence structure for begin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learly explain the academic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peak slowly and clearly without overdo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vide sufficient wai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a variety of techniques/strateg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to make content concepts cl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visuals, hands-on activities, demonstrations, gestures, body language and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Develop and emphasize technical (content)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troduce, write, repeat, and highlight ke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Use vocabulary building strategies (see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ifications for ELs: </a:t>
            </a:r>
            <a:br>
              <a:rPr sz="28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romoting Lesson Comprehension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Display a chart depicting commonly used abbreviations and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Pt. = pint, lb.=pounds, ft.=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ly review previously learned key conce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out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al learning, in which skills are developed slowly over time through repetition and extension, is an effective strategy for thi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key terms whenever necess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ch as mathematical terms that may be too abstract or conf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tion of 2-digit numbers: review product, sum, carry, exchange and eq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Gulim"/>
              </a:rPr>
              <a:t>Introduce key vocabulary using visuals, realia, modeling and demonst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9T19:38:58Z</dcterms:created>
  <dc:creator>Campus User</dc:creator>
  <dc:description/>
  <dc:language>en-US</dc:language>
  <cp:lastModifiedBy>Murphy Home</cp:lastModifiedBy>
  <dcterms:modified xsi:type="dcterms:W3CDTF">2010-04-24T20:14:02Z</dcterms:modified>
  <cp:revision>21</cp:revision>
  <dc:subject/>
  <dc:title>Teaching Strategies for Engaging English Learners (ELs)</dc:title>
</cp:coreProperties>
</file>